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9888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6240" y="690120"/>
            <a:ext cx="47052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2288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98880" y="882288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9757A3-FB21-4642-8BF0-B61C3639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6240" y="69048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is to match slides for rest of kit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6465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Vertex Program Modules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k Lindhol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kl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ower Series Varian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option is to use DP4 ops to build up a power series. Below is a 16 term power ser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 R0,X,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R0,R0.xzyw,R0.xxxy;        /* 1,x,x^2,x^3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4 R1.x,R0,c[ABCD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4 R1.y,R0,c[EFGH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4 R1.z,R0,c[IJKL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4 R1.w,R0,c[MNOP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R0,R0,R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R0,R0,R0;                           /* 1,x^4,x^8,x^12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4 R0,R0,R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S/SIN Algorith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input to normalized range 0.0-1.0 (0.0-2P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input into 3 ran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 - 0.25, 0.25 – 0.75, 0.75 –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input for each range to +/-0.25 by translation. Use negative coefficients if nee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power series for three ranges in paralle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correct range with dp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is just a shifted 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S/SIN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1676520"/>
            <a:ext cx="746748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series used here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(x) = c[4].zwzw         + c[4].xyxy*x^2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3].zwzw*x^4 + c[3].xyxy*x^6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2].zwzw*x^8 + c[2].xyxy*x^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-0.25&lt;=x&lt;=0.25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0]   0.0,0.5,1.0,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]   0.25,-9.0,0.75,1.0/(2*P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2]   24.9808039603,-24.9808039603, -60.1458091736, 60.14580917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3]   85.4537887573, -85.4537887573a6, -64.9393539429, 64.93935394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4]   19.7392082214, -19.7392082214, -1.0,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Simulation gives a max absolute error of less than 1.8e-7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 R1.x,c[1].w,v[2].x;        /* normalize input *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 R1.y,R1.x;                      /* and extract fraction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T R2.x,R1.y,c[1];                /* range check: 0.0 to 0.25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GE R2.yz,R1.y,c[1];             /* range check: 0.75 to 1.0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3 R2.y,R2,c[4].zwzw;        /* range check: 0.25 to 0.75 *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0.xyz,-R1.y,c[0];          /* range centering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 R0,R0,R0;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c[2].xyxy,R0,c[2].zwzw;   /* start power series */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3].xyxy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3].zwzw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4].xyxy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4].zwzw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3 R0,R1,-R2;                          /* range extract */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I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.x,c[1].w,v[2].x,-c[1].x;        /* only difference from COS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 R1.y,R1.x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T R2.x,R1.y,c[1];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GE R2.yz,R1.y,c[1];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3 R2.y,R2,c[4].zwzw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0.xyz,-R1.y,c[0];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 R0,R0,R0;   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c[2].xyxy,R0,c[2].zwzw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3].xyxy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3].zwzw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4].xyxy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 R1,R1,R0,c[4].zwzw;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3 R0,R1,-R2;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LUT Algorith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a lerped 4x4 lookup from const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repeat mode on u,v. Replicate data set to make repeat cheap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have larger v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er to have u size larger than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mp mode is very similar. Clamp source (u,v) using MIN/MAX and replicate last row instead of first row of constant blo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LUT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0]  1.0, 0.0, 0.0, 0.0            /* extraction masks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]  0.0, 1.0, 0.0, 0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2]  0.0, 0.0, 1.0, 0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3]  0.0, 0.0, 0.0,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4]  1.0, 0.0, 0.0, 0.0            /* repeat: copy of first row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 8]   0.0, 0.2, 0.2, 0.0);        /* LUT data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 9]   0.2, 0.8, 0.8, 0.2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0]  0.2, 0.8, 0.8, 0.2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1]  0.0, 0.2, 0.2, 0.0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2]  0.0, 0.2, 0.2, 0.0);        /* repeat: copy of first row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32]  -0.5/4.0, -0.5/4.0, 0.0, 1.0    /* centering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33]   4.0, 4.0, 0.0, 0.0                 /* scaling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LUT 1/3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0,v[2],c[32];   /* adjust sampling point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R1.y,R0.x;         /* repeat mode on u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1.x,R1.y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R1.y,R0.y;         /* repeat mode on v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4,R1,c[33];     /* scale by size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R5.y,R4.x;         /* u frac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5.x,R5.y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R5.y,R4.y;         /* v frac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LUT 2/3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L A0.x,R4.y;                /* v base addres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0,c[A0.x+8];          /* first u,v quad read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1,c[A0.x+9];          /* second u,v quad read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L A0.x,R4.x;                /* u base mask addres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4 R2.x,R0,c[A0.x+0];  /* mask off (u,v)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4 R2.y,R1,c[A0.x+0];  /* mask off (u,v+1)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4 R2.z,R0,c[A0.x+1];   /* mask off (u+1,v)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4 R2.w,R1,c[A0.x+1];  /* mask off (u+1,v+1)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LUT 3/3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4.xy,R2.zwzw,-R2.xyxy;          /* start bilerp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4.xy,R5.x,R4.xyxy,R2.xyxy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4.z,R4.y,-R4.x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,R5.y,R4.z,R4.x;                     /* final sample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Program Modul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interesting case studies. These programs are fairly optimized, but better is possible. Can always add/subtract power series terms for higher/lower accuracy. Make sure you optimize the coefficients for the number of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rod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/S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x4 L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x4 Matrix I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DELBR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Matrix Invers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2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 a full 4x4 matrix stored in constant memory locations c[0]-c[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the full 4x4 inverse matrix into R8-R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Matrix Inversion Code 1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4,c[0];          /* move source matrix into regs */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5,c[1]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6,c[2]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7,c[3];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Matrix Inversion Code 2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0,R6.wyzx,R7.zwyx;                /* generate first half of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1,R4.wyzx,R5.zwyx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2,R6.wxzy,R7.zwxy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3,R4.wxzy,R5.zwxy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0,R6.zwyx,R7.wyzx,-R0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1,R4.zwyx,R5.wyzx,-R1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2,R6.zwxy,R7.wxzy,-R2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3,R4.zwxy,R5.wxzy,-R3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8.x,R5.yzwx,R0;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9.x,R4.yzwx,-R0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0.x,R7.yzwx,R1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1.x,R6.yzwx,-R1;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8.y,R5.xzwy,-R2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9.y,R4.xzwy,R2;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0.y,R7.xzwy,-R3;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1.y,R6.xzwy,R3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Matrix Inversion Code 3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0,R6.wxyz,R7.ywxz;                /* generate second half of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1,R4.wxyz,R5.ywxz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2,R6.zxyw,R7.yzxw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 R3,R4.zxyw,R5.yzxw;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0,R6.ywxz,R7.wxyz,-R0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1,R4.ywxz,R5.wxyz,-R1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2,R6.yzxw,R7.zxyw,-R2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 R3,R4.yzxw,R5.zxyw,-R3;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8.z,R5.xywz,R0;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9.z,R4.xywz,-R0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0.z,R7.xywz,R1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1.z,R6.xywz,-R1;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8.w,R5.xyzw,-R2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9.w,R4.xyzw,R2;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0.w,R7.xyzw,-R3;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 R11.w,R6.xyzw,R3;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4x4 Matrix Inversion Code 4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4 R7.w,R8,R4;       /* determinant */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R7.w,R7.w;        /* reciprocate determinant */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8,R8,R7.w;      /* multiply into matrix */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9,R9,R7.w;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10,R10,R7.w;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11,R11,R7.w;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andelbrot Algorith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+iY) = (x+iy)*(x+iy) + (x0+iy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x*x – y*y + x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2xy + y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magnitude is X*X + Y*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one vertex per pix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has 21 iter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andelbrot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[0]   1.0,-1.0, 0.0,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[1]   0.2, 1.0, 0.4,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andelbro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init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R0,v[0].xyzy,c[0].xxxy;      /* R0 = (x0,y0,0.0,-y0)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 R4,R0.xzyw,c[0].xxww;     /* R4 = (x0,0.0,0.5*y0,-0.5*y0)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iterate many times (by repeating block)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 R1,R0.xyxx,R0.xyyw,R4;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* x*x+x0,y*y,xy+y0/2,-xy-y0/2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R0.xyw,R1.xzww,-R1.ywwz;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* x*x-y*y+x0,2xy+y0,0.0,-2xy-y0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* color output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3 R1.w,R0,R0;                                 /* x*x + y*y + 0*0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E o[COL0].xyz,R1.w,c[1]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9360" y="108432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ross Produc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       j       k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0.x R0.y R0.z    =  (R0.y*R1.z – R1.y*R0.z)i 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.x R1.y R1.z         (R0.z*R1.x – R1.z*R0.x)j 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0.x*R1.y – R1.x*R0.y)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(R0.yzx * R1.zxy – R1.yzx*R0.zx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2,R0.yzxw,R1.zxy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2,-R1.yzxw,R0.zxyw,R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981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981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OG Algorith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input to exponent and mantis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eries evaluation using mantis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exponent to power series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2(m*2^e) = log2(m) + 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most ops are scalar, would be cheap to do 4 log() in parall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OG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series used here 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2(1.0+x) = c[1].x*x     + c[1].y*x^2 + c[1].z*x^3 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1].w*x^4 + c[0].x*x^5 + c[0].y*x^6 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0].z*x^7 + c[0].w*x^8;                  /* 0&lt;=x&lt;=1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0]   2.41873696e-01, -1.37531206e-01, 5.20646796e-02, -9.31049418e-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1]   1.44268966e+00, -7.21165776e-01, 4.78684813e-01, -3.47305417e-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2]   1.0, 0.0, 0.0, 0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simulation gives a max absolute error of less than 1.8e-7 for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issa inp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O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R0,v[2].x;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0.y,R0.y,-c[2].x;            /* subtract 1.0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c[0].w,R0.y,c[0].z; /* start power serie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0].y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0].x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1].w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1].z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1].y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1].x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,R0.w,R0.y,R0.x;       /* exponent add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XP Algorith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input to integer and f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eries evaluation using f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 (2^integer) with power series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2(i + f) = (2^i) * exp2(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most ops are scalar, would be cheap to do 4 exp() in parall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XP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series used here 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2(x) = 1.0/(c[5].x + c[5].y*x + c[5].z*x^2 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5].w*x^3 + c[4].x*x^4 + c[4].y*x^5 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[4].z*x^6 + c[4].w*x^7);                    /* 0&lt;=x&lt;=1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4]   9.61597636e-03, -1.32823968e-03, 1.47491097e-04, -1.08635004e-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[5]   1.00000000e+00, -6.93147182e-01, 2.40226462e-01, -5.55036440e-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Simulation gives a max absolute error of less than 3.8e-7 for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al inp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XP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 R0,v[2].x;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c[4].w,R0.y,c[4].z; /* start power serie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4].y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4].x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5].w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5].z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5].y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R0.w,R0.w,R0.y,c[5].x;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R0.w,R0.w;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 R0,R0.w,R0.x;               /* multiply in 2^i */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20:24:13Z</dcterms:created>
  <dc:creator>Nvidia Corporation</dc:creator>
  <dc:description/>
  <dc:language>en-US</dc:language>
  <cp:lastModifiedBy>Staff</cp:lastModifiedBy>
  <cp:lastPrinted>1999-12-03T03:25:53Z</cp:lastPrinted>
  <dcterms:modified xsi:type="dcterms:W3CDTF">2000-10-24T23:56:15Z</dcterms:modified>
  <cp:revision>218</cp:revision>
  <dc:subject/>
  <dc:title>NV15 &amp; Vanta 2 GPU Update</dc:title>
</cp:coreProperties>
</file>